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C802-542C-4722-91FC-86F7CBAF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382-9286-4734-9CE5-BA72E47A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A0B-EFCF-4A52-A877-DA2BC421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2E7-226E-4E21-8561-E19C346C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7F9-543D-4BE1-93B9-3587727C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0B8-E503-42DE-A9D7-4E91332D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285-276E-4EC4-A24E-A2E98D83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3DD4-9F93-405A-BFFE-67D1874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8F5-8403-4C85-BE21-3F32897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24E-AB58-4B0F-9EF5-3250F74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81A-FDC8-4442-8445-EE795F46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62C9-AB8B-4F30-91BD-7344E646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15DA-0B66-4E36-8776-C21D1D74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ngrade.com/" TargetMode="External"/><Relationship Id="rId2" Type="http://schemas.openxmlformats.org/officeDocument/2006/relationships/hyperlink" Target="http://www.engrade.com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gra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5029200"/>
            <a:ext cx="8382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ngrade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1851" t="14814" r="1851" b="46672"/>
          <a:stretch/>
        </p:blipFill>
        <p:spPr>
          <a:xfrm>
            <a:off x="609480" y="304920"/>
            <a:ext cx="7925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0909" t="14545" r="12728" b="6911"/>
          <a:stretch/>
        </p:blipFill>
        <p:spPr>
          <a:xfrm>
            <a:off x="457200" y="1752480"/>
            <a:ext cx="8153280" cy="480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“Student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on “Sign Up – It’s Free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1874" t="14998" r="12500" b="24002"/>
          <a:stretch/>
        </p:blipFill>
        <p:spPr>
          <a:xfrm>
            <a:off x="457200" y="1338120"/>
            <a:ext cx="82296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er Access Code He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876" t="14998" r="6876" b="29468"/>
          <a:stretch/>
        </p:blipFill>
        <p:spPr>
          <a:xfrm>
            <a:off x="457200" y="16765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6880" y="32767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the “Student Sign-U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10000" t="14998" r="11252" b="35004"/>
          <a:stretch/>
        </p:blipFill>
        <p:spPr>
          <a:xfrm>
            <a:off x="457200" y="1371600"/>
            <a:ext cx="8229600" cy="4756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520" y="571500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must be “firstnamelastnamestudentnumb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ree &amp; Sub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2403" t="14417" r="13956" b="38452"/>
          <a:stretch/>
        </p:blipFill>
        <p:spPr>
          <a:xfrm>
            <a:off x="1447920" y="3581280"/>
            <a:ext cx="7238880" cy="2895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2500" t="14998" r="48127" b="40002"/>
          <a:stretch/>
        </p:blipFill>
        <p:spPr>
          <a:xfrm>
            <a:off x="304920" y="1523880"/>
            <a:ext cx="40384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6:11:03Z</dcterms:created>
  <dc:creator>CEC158</dc:creator>
  <dc:description/>
  <dc:language>en-US</dc:language>
  <cp:lastModifiedBy>CEC158</cp:lastModifiedBy>
  <dcterms:modified xsi:type="dcterms:W3CDTF">2010-08-02T18:19:09Z</dcterms:modified>
  <cp:revision>2</cp:revision>
  <dc:subject/>
  <dc:title>Engrade</dc:title>
</cp:coreProperties>
</file>